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6C76-2768-432C-970A-3D31847A95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2933-FEAC-414A-92EB-C64965D1EC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96E0-01E7-46FC-A8BC-B89EB57020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E8B2-DD7A-4365-A421-FF6A7FA9AC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7598-F248-4F19-8ED3-DA4104AD85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B1E-123D-4CAF-98E1-B222FC35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1AA-5D58-4664-8C05-F36CA2B8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E74D-DDB8-422B-A44C-CB4E0ED7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977-E2AE-4754-943B-4F7D404E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AF2-38E5-4EDC-B8BD-FAB094CE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AB8-7D2F-4177-BB2A-8376F1DC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769-DFE3-4BC5-A6E4-FFE8439F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9E9-C742-487C-9623-627C304D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C1E-3BFB-451F-8AB8-7EEB3072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951-5056-449E-B642-2CC3D4A7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5BD-84AE-495C-B08D-9434D788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F42-B0CF-4DCC-8983-E0C4DB03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1445-D653-4382-9AC1-4E0160DB03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utton16.wav" TargetMode="External"/><Relationship Id="rId2" Type="http://schemas.openxmlformats.org/officeDocument/2006/relationships/hyperlink" Target="file:///tmp/home/.config/libreoffice/4/user/gallery/Button16.wav" TargetMode="External"/><Relationship Id="rId3" Type="http://schemas.openxmlformats.org/officeDocument/2006/relationships/hyperlink" Target="file:///tmp/home/.config/libreoffice/4/user/gallery/Button16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2051"/>
          <p:cNvSpPr/>
          <p:nvPr/>
        </p:nvSpPr>
        <p:spPr>
          <a:xfrm>
            <a:off x="468360" y="765000"/>
            <a:ext cx="7848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华文行楷"/>
                <a:ea typeface="华文行楷"/>
              </a:rPr>
              <a:t>第</a:t>
            </a:r>
            <a:r>
              <a:rPr b="0" lang="zh-CN" sz="7200" spc="-1" strike="noStrike">
                <a:solidFill>
                  <a:srgbClr val="009999"/>
                </a:solidFill>
                <a:latin typeface="华文行楷"/>
                <a:ea typeface="华文行楷"/>
              </a:rPr>
              <a:t>9</a:t>
            </a:r>
            <a:r>
              <a:rPr b="0" lang="zh-CN" sz="7200" spc="-1" strike="noStrike">
                <a:solidFill>
                  <a:srgbClr val="009999"/>
                </a:solidFill>
                <a:latin typeface="华文行楷"/>
                <a:ea typeface="华文行楷"/>
              </a:rPr>
              <a:t>章综合实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052"/>
          <p:cNvSpPr/>
          <p:nvPr/>
        </p:nvSpPr>
        <p:spPr>
          <a:xfrm>
            <a:off x="539640" y="2131920"/>
            <a:ext cx="8064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【教学目的与要求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、编写一个简单的学生成绩管理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、了解应用程序设计解决实际问题的具体过程和实现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【教学重点与难点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行楷"/>
              </a:rPr>
              <a:t>掌握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行楷"/>
              </a:rPr>
              <a:t>C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行楷"/>
              </a:rPr>
              <a:t>语言的程序编写、函数设计、算法设计和程序调试方法，初步掌握系统开发过程的问题分析、系统设计、程序编码、测试等基本方法和技能</a:t>
            </a:r>
            <a:r>
              <a:rPr b="1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对象 15" descr=""/>
          <p:cNvPicPr/>
          <p:nvPr/>
        </p:nvPicPr>
        <p:blipFill>
          <a:blip r:embed="rId1"/>
          <a:stretch/>
        </p:blipFill>
        <p:spPr>
          <a:xfrm>
            <a:off x="1600200" y="549360"/>
            <a:ext cx="3508200" cy="576108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2"/>
          <p:cNvSpPr/>
          <p:nvPr/>
        </p:nvSpPr>
        <p:spPr>
          <a:xfrm>
            <a:off x="814320" y="6310440"/>
            <a:ext cx="50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-2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系统功能选择流程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7411"/>
          <p:cNvSpPr/>
          <p:nvPr/>
        </p:nvSpPr>
        <p:spPr>
          <a:xfrm>
            <a:off x="495360" y="768240"/>
            <a:ext cx="56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②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AddStudent()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：添加学生成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"/>
          <p:cNvSpPr/>
          <p:nvPr/>
        </p:nvSpPr>
        <p:spPr>
          <a:xfrm>
            <a:off x="955800" y="1539720"/>
            <a:ext cx="69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Stude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输入学生姓名、成绩等信息保存到数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，输入完成后，调用函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veFil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将数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的数据写入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ent.t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495360" y="3198960"/>
            <a:ext cx="56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③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DelStudent()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：删除学生成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4"/>
          <p:cNvSpPr/>
          <p:nvPr/>
        </p:nvSpPr>
        <p:spPr>
          <a:xfrm>
            <a:off x="907920" y="4119480"/>
            <a:ext cx="69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Stude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输入学生姓名，在数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[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查询该学生，将该学生的数据从数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[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删除，最后调用函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veFil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将数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[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的数据写入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ent.t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文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7411"/>
          <p:cNvSpPr/>
          <p:nvPr/>
        </p:nvSpPr>
        <p:spPr>
          <a:xfrm>
            <a:off x="495360" y="768240"/>
            <a:ext cx="56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④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UpdateStudent()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：修改学生成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7411"/>
          <p:cNvSpPr/>
          <p:nvPr/>
        </p:nvSpPr>
        <p:spPr>
          <a:xfrm>
            <a:off x="495360" y="3681360"/>
            <a:ext cx="56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⑤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SearchStudent()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：查询学生成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99"/>
          <p:cNvSpPr/>
          <p:nvPr/>
        </p:nvSpPr>
        <p:spPr>
          <a:xfrm>
            <a:off x="755640" y="1486080"/>
            <a:ext cx="695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tude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输入学生姓名，在数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查询该学生，修改数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[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的数据，最后调用函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veFil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将数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[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的数据写入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ent.t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"/>
          <p:cNvSpPr/>
          <p:nvPr/>
        </p:nvSpPr>
        <p:spPr>
          <a:xfrm>
            <a:off x="755640" y="4516560"/>
            <a:ext cx="69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Stude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输入学生姓名，在数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[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查询，并显示该学生的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2529"/>
          <p:cNvSpPr/>
          <p:nvPr/>
        </p:nvSpPr>
        <p:spPr>
          <a:xfrm>
            <a:off x="0" y="3348000"/>
            <a:ext cx="91440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7411"/>
          <p:cNvSpPr/>
          <p:nvPr/>
        </p:nvSpPr>
        <p:spPr>
          <a:xfrm>
            <a:off x="495360" y="2633760"/>
            <a:ext cx="56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⑦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DispStudent()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：输出学生成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7411"/>
          <p:cNvSpPr/>
          <p:nvPr/>
        </p:nvSpPr>
        <p:spPr>
          <a:xfrm>
            <a:off x="495360" y="871560"/>
            <a:ext cx="56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⑥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Avearage()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：统计生成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99"/>
          <p:cNvSpPr/>
          <p:nvPr/>
        </p:nvSpPr>
        <p:spPr>
          <a:xfrm>
            <a:off x="755640" y="1550880"/>
            <a:ext cx="72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arag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统计数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[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的学生成绩，并输出每门功课的平均成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"/>
          <p:cNvSpPr/>
          <p:nvPr/>
        </p:nvSpPr>
        <p:spPr>
          <a:xfrm>
            <a:off x="949320" y="3348000"/>
            <a:ext cx="70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Stude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输出保存在数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[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的学生成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7411"/>
          <p:cNvSpPr/>
          <p:nvPr/>
        </p:nvSpPr>
        <p:spPr>
          <a:xfrm>
            <a:off x="495360" y="4359240"/>
            <a:ext cx="74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⑧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SortStudent1()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：按总分降序对学生成绩排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5"/>
          <p:cNvSpPr/>
          <p:nvPr/>
        </p:nvSpPr>
        <p:spPr>
          <a:xfrm>
            <a:off x="755640" y="5124600"/>
            <a:ext cx="72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Student1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按总分降序对保存在数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[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的学生成绩排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7411"/>
          <p:cNvSpPr/>
          <p:nvPr/>
        </p:nvSpPr>
        <p:spPr>
          <a:xfrm>
            <a:off x="577800" y="2481120"/>
            <a:ext cx="75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⑩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void SaveFile()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：将学生成绩写入文件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student.txt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7411"/>
          <p:cNvSpPr/>
          <p:nvPr/>
        </p:nvSpPr>
        <p:spPr>
          <a:xfrm>
            <a:off x="495360" y="4656240"/>
            <a:ext cx="698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⑾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void ReadFile()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：从文件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student.txt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中读入学生成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7411"/>
          <p:cNvSpPr/>
          <p:nvPr/>
        </p:nvSpPr>
        <p:spPr>
          <a:xfrm>
            <a:off x="495360" y="871560"/>
            <a:ext cx="76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⑨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SortStudent2()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：按姓名升序对学生成绩排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99"/>
          <p:cNvSpPr/>
          <p:nvPr/>
        </p:nvSpPr>
        <p:spPr>
          <a:xfrm>
            <a:off x="1017720" y="1417680"/>
            <a:ext cx="645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Student2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按姓名升序对保存在数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[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的学生成绩排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"/>
          <p:cNvSpPr/>
          <p:nvPr/>
        </p:nvSpPr>
        <p:spPr>
          <a:xfrm>
            <a:off x="1015920" y="3311640"/>
            <a:ext cx="64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Fil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将保存在数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[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的学生成绩写入文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.t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。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6"/>
          <p:cNvSpPr/>
          <p:nvPr/>
        </p:nvSpPr>
        <p:spPr>
          <a:xfrm>
            <a:off x="1079640" y="5486400"/>
            <a:ext cx="64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Fil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从文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.t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中读入学生成绩，保存到数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[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22529"/>
          <p:cNvSpPr/>
          <p:nvPr/>
        </p:nvSpPr>
        <p:spPr>
          <a:xfrm>
            <a:off x="0" y="3348000"/>
            <a:ext cx="91440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66560" y="1452600"/>
            <a:ext cx="820908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include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include&lt;string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define N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AddStudent();         /*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添加学生成绩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DelStudent();         /*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删除学生成绩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UpdateStudent();      /*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修改学生成绩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SearchStudent();      /*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查询学生成绩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Avearage();           /*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统计并输出每门功课的平均成绩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DispStudent();        /*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输出学生成绩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SortStudent1();       /*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按总分降序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SortStudent2();       /*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按姓名升序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SaveFile();           /*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学生成绩写入文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.t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中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ReadFile();           /*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从文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.t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中读入学生成绩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7410"/>
          <p:cNvSpPr/>
          <p:nvPr/>
        </p:nvSpPr>
        <p:spPr>
          <a:xfrm>
            <a:off x="647640" y="64764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§9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程序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395280" y="692280"/>
            <a:ext cx="842472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name[2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math,english,chinese,total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Student st[N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lengt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selec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adFil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n\t\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从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:\\student.t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入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学生的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,lengt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 ( 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395280" y="692280"/>
            <a:ext cx="842472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n\n\t\t=======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欢迎使用学生成绩管理系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=======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t\t\t 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学生成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t\t\t 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学生成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t\t\t 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学生成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t\t\t 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查询学生成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t\t\t 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统计学生成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t\t\t 6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学生成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t\t\t 7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照总分降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t\t\t 8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照姓名升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t\t\t 0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保存数据、退出系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n"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t\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输入你的选择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95280" y="692280"/>
            <a:ext cx="842472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d",&amp;selec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(sel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1:  AddStudent();     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2:  DelStudent();     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3:  UpdateStudent();  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4:  SearchStudent();  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5:  Avearage();       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6:  DispStudent();    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7:  SortStudent1();   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8:  SortStudent2();   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0:  SaveFile();     return 0;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395280" y="763560"/>
            <a:ext cx="842472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***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学生成绩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AddStuden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Student 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输入学生姓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s",t.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输入学生三门功课的成绩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d%d%d",&amp;t.math,&amp;t.english,&amp;t.chines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.total=t.math+t.english+t.chine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[length++]=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eFile(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成功！目前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\n",lengt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484280"/>
            <a:ext cx="4876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9.1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9.2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系统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9.3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系统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9.4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程序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调试运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075">
            <a:hlinkClick r:id="rId1"/>
          </p:cNvPr>
          <p:cNvSpPr/>
          <p:nvPr/>
        </p:nvSpPr>
        <p:spPr>
          <a:xfrm>
            <a:off x="5560920" y="5040360"/>
            <a:ext cx="2438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076">
            <a:hlinkClick r:id="rId2"/>
          </p:cNvPr>
          <p:cNvSpPr/>
          <p:nvPr/>
        </p:nvSpPr>
        <p:spPr>
          <a:xfrm>
            <a:off x="2438280" y="4419720"/>
            <a:ext cx="2438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078">
            <a:hlinkClick r:id="rId3"/>
          </p:cNvPr>
          <p:cNvSpPr/>
          <p:nvPr/>
        </p:nvSpPr>
        <p:spPr>
          <a:xfrm>
            <a:off x="3424320" y="6132600"/>
            <a:ext cx="365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395280" y="763560"/>
            <a:ext cx="8424720" cy="52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***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学生成绩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DelStuden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name[2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输入要删除学生的姓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s",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(i=0; i&lt;length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 strcmp(st[i].name,name)==0 ) brea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; i&lt;length-1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[i]=st[i+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ngth--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eFil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成功！目前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\n",lengt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395280" y="763560"/>
            <a:ext cx="8424720" cy="59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****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学生成绩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UpdateStuden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Student 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输入学生姓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s",&amp;t.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输入学生三门功课的成绩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d%d%d",&amp;t.math,&amp;t.english,&amp;t.chines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.total=t.math+t.english+t.chinese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(i=0; i&lt;length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 strcmp(st[i].name,t.name)==0 ) 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[i]=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eFil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成功！目前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\n",length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360360" y="501480"/>
            <a:ext cx="8299440" cy="59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********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学生姓名进行查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****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SearchStuden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name[2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输入要查找学生的姓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s",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(i=0; i&lt;length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 strcmp(st[i].name,name)==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姓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s\n",st[i].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门功课成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学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d\n",st[i].mat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d\n",st[i].chines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英语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d\n",st[i].englis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分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d\n\n",st[i].tota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358920" y="557280"/>
            <a:ext cx="8424720" cy="59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n\t\t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门功课的平均成绩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t\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文平均分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5.2f\n",mathSum/lengt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t\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学平均分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5.2f\n",chineseSum/lengt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t\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英语平均分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5.2f\n\n",englishSum/lengt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学生成绩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DispStuden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i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t\t|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姓名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学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文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英语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 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(i=0; i&lt;length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t\t| %-8s |%4d  |%4d  |%4d  | %4d | \n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[i].name,st[i].math,st[i].chinese,st[i].english,st[i].tota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395280" y="763560"/>
            <a:ext cx="8424720" cy="52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******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照总分降序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****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SortStudent1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int i,j,max,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Student 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(i=0; i&lt;length-1; i++)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max=st[i].total,k=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(j=i+1; j&lt;length; j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( max&lt;st[j].total) max=st[j].total,k=j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=st[i]; st[i]=st[k]; st[k]=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t\t*******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总分从大到小排序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****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Stude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eFile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395280" y="763560"/>
            <a:ext cx="842472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******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照姓名升序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****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SortStudent2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i,j,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min[2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Student 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(i=0; i&lt;length-1; i++)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strcpy(min,st[i].name),k=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(j=i+1; j&lt;length; j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( strcmp(min,st[j].name)&gt;0) strcpy(min,st[j].name),k=j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=st[i]; st[i]=st[k]; st[k]=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358920" y="460440"/>
            <a:ext cx="8424720" cy="631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******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照总分降序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****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SortStudent1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int i,j,max,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Student 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(i=0; i&lt;length-1; i++)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max=st[i].total,k=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(j=i+1; j&lt;length; j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( max&lt;st[j].total) max=st[j].total,k=j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=st[i]; st[i]=st[k]; st[k]=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t\t*******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总分从大到小排序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****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Stude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eFile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     printf("\t\t*******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姓名字母升序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****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pStude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eFile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395280" y="763560"/>
            <a:ext cx="8424720" cy="59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**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学生成绩写入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.t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SaveFil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LE  *f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=fopen("D:\\student.txt","w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(i=0; i&lt;length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rintf( fp,"%s ",st[i].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rintf( fp,"%d ",st[i].mat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rintf( fp,"%d ",st[i].chines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rintf( fp,"%d ",st[i].englis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rintf( fp,"%d",st[i].tota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358920" y="639720"/>
            <a:ext cx="8424720" cy="59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**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.t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读入学生成绩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ReadFil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LE  *f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Student 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=fopen("D:\\student.txt","r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ngth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 !feof(fp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scanf( fp,"%s",st[length].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scanf( fp,"%d",&amp;st[length].mat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scanf( fp,"%d",&amp;st[length].chines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scanf( fp,"%d",&amp;st[length].englis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scanf( fp,"%d",&amp;st[length].tota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ngth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250920" y="692280"/>
            <a:ext cx="8281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9.5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调试运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7411"/>
          <p:cNvSpPr/>
          <p:nvPr/>
        </p:nvSpPr>
        <p:spPr>
          <a:xfrm>
            <a:off x="468360" y="1403280"/>
            <a:ext cx="73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运行程序，进入系统功能选择界面如图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9-3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750960" y="1863720"/>
            <a:ext cx="6503760" cy="429084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99"/>
          <p:cNvSpPr/>
          <p:nvPr/>
        </p:nvSpPr>
        <p:spPr>
          <a:xfrm>
            <a:off x="1611360" y="614988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-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统功能选择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8433"/>
          <p:cNvSpPr/>
          <p:nvPr/>
        </p:nvSpPr>
        <p:spPr>
          <a:xfrm>
            <a:off x="250920" y="692280"/>
            <a:ext cx="6156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§9.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问题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24000" y="1413000"/>
            <a:ext cx="836424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将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语言程序设计中的程序控制结构、函数、数组、结构体、文件等知识串联起来，设计一个简单的学生成绩管理系统，实现学生成绩的增、删、查、改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250920" y="692280"/>
            <a:ext cx="8281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7411"/>
          <p:cNvSpPr/>
          <p:nvPr/>
        </p:nvSpPr>
        <p:spPr>
          <a:xfrm>
            <a:off x="468360" y="692280"/>
            <a:ext cx="80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按总分降序排序后，在主界面中选择输出学生成绩信息，如图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9-4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99"/>
          <p:cNvSpPr/>
          <p:nvPr/>
        </p:nvSpPr>
        <p:spPr>
          <a:xfrm>
            <a:off x="1508040" y="5460840"/>
            <a:ext cx="57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-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按总分降序输出学生成绩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2" descr=""/>
          <p:cNvPicPr/>
          <p:nvPr/>
        </p:nvPicPr>
        <p:blipFill>
          <a:blip r:embed="rId1"/>
          <a:stretch/>
        </p:blipFill>
        <p:spPr>
          <a:xfrm>
            <a:off x="611280" y="1778040"/>
            <a:ext cx="75596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250920" y="692280"/>
            <a:ext cx="8281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7411"/>
          <p:cNvSpPr/>
          <p:nvPr/>
        </p:nvSpPr>
        <p:spPr>
          <a:xfrm>
            <a:off x="468360" y="692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按姓名升序排序后，在主界面中选择输出学生成绩信息，如图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9-5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99"/>
          <p:cNvSpPr/>
          <p:nvPr/>
        </p:nvSpPr>
        <p:spPr>
          <a:xfrm>
            <a:off x="1514520" y="5280120"/>
            <a:ext cx="57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-5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按姓名升序输出学生成绩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3" descr=""/>
          <p:cNvPicPr/>
          <p:nvPr/>
        </p:nvPicPr>
        <p:blipFill>
          <a:blip r:embed="rId1"/>
          <a:stretch/>
        </p:blipFill>
        <p:spPr>
          <a:xfrm>
            <a:off x="611280" y="1901880"/>
            <a:ext cx="755964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250920" y="692280"/>
            <a:ext cx="8281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超市信息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7411"/>
          <p:cNvSpPr/>
          <p:nvPr/>
        </p:nvSpPr>
        <p:spPr>
          <a:xfrm>
            <a:off x="446040" y="163836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设计思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99"/>
          <p:cNvSpPr/>
          <p:nvPr/>
        </p:nvSpPr>
        <p:spPr>
          <a:xfrm>
            <a:off x="446040" y="2390760"/>
            <a:ext cx="825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分成几个相对独立的模块，但这些模块都进行集中式管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层的模块化程序设计思想，整个系统采用模块化结构设计作为应用程序，有较强的可操作性和扩展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理的数据设计，在应用系统设计中，相对独立的模块间以数据相互连接，使各模块间的耦合性较低，方便系统运行，提高系统安全性 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250920" y="692280"/>
            <a:ext cx="8281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7411"/>
          <p:cNvSpPr/>
          <p:nvPr/>
        </p:nvSpPr>
        <p:spPr>
          <a:xfrm>
            <a:off x="446040" y="12034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设计原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99"/>
          <p:cNvSpPr/>
          <p:nvPr/>
        </p:nvSpPr>
        <p:spPr>
          <a:xfrm>
            <a:off x="446040" y="1838160"/>
            <a:ext cx="7989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了使本系统功能齐全完备，操作简便，最大限度的提高软件的质量，从而满足用户的实际需要，在设计开发过程中遵循了如下原则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合法性原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依据产品核算系统的工作规定以及要求，参照核算实际的工作情况，进行诸如产品进货、销售等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实用性原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适合产品信息管理工作的实际需求，并能够处理一些特殊情况的要求，此外，尽可能预留空间，以便扩充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250920" y="692280"/>
            <a:ext cx="8281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99"/>
          <p:cNvSpPr/>
          <p:nvPr/>
        </p:nvSpPr>
        <p:spPr>
          <a:xfrm>
            <a:off x="446040" y="143820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准确性原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对输入的相关资料建立检错机制，及时报错，使用户能够及时准确的输入合法资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：类型匹配，长度不超限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易操作原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要求设计的系统功能齐全，界面友好，操作方便，必要的地方进行提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5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源程序可读性原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为了便于其他设计，维护人员读懂代码或以后的代码修改，软件升级维护，即可能做好代码注释工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250920" y="692280"/>
            <a:ext cx="8281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7411"/>
          <p:cNvSpPr/>
          <p:nvPr/>
        </p:nvSpPr>
        <p:spPr>
          <a:xfrm>
            <a:off x="446040" y="116064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性能需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99"/>
          <p:cNvSpPr/>
          <p:nvPr/>
        </p:nvSpPr>
        <p:spPr>
          <a:xfrm>
            <a:off x="446040" y="1838160"/>
            <a:ext cx="79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精确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品的进货单和销售单中，单价、金额采用浮点数，保留至小数点后两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250920" y="692280"/>
            <a:ext cx="8281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7411"/>
          <p:cNvSpPr/>
          <p:nvPr/>
        </p:nvSpPr>
        <p:spPr>
          <a:xfrm>
            <a:off x="446040" y="116064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系统功能设计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1073742966"/>
          <p:cNvGrpSpPr/>
          <p:nvPr/>
        </p:nvGrpSpPr>
        <p:grpSpPr>
          <a:xfrm>
            <a:off x="825480" y="1316160"/>
            <a:ext cx="7172280" cy="4762080"/>
            <a:chOff x="825480" y="1316160"/>
            <a:chExt cx="7172280" cy="4762080"/>
          </a:xfrm>
        </p:grpSpPr>
        <p:sp>
          <p:nvSpPr>
            <p:cNvPr id="142" name="矩形 1073742967"/>
            <p:cNvSpPr/>
            <p:nvPr/>
          </p:nvSpPr>
          <p:spPr>
            <a:xfrm>
              <a:off x="825480" y="1316160"/>
              <a:ext cx="7172280" cy="45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1073742968"/>
            <p:cNvSpPr/>
            <p:nvPr/>
          </p:nvSpPr>
          <p:spPr>
            <a:xfrm>
              <a:off x="3319560" y="1760040"/>
              <a:ext cx="1871640" cy="59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超市信息管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1073742969"/>
            <p:cNvSpPr/>
            <p:nvPr/>
          </p:nvSpPr>
          <p:spPr>
            <a:xfrm>
              <a:off x="4723200" y="3238560"/>
              <a:ext cx="1247040" cy="44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销售管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1073742970"/>
            <p:cNvSpPr/>
            <p:nvPr/>
          </p:nvSpPr>
          <p:spPr>
            <a:xfrm>
              <a:off x="3164400" y="3238560"/>
              <a:ext cx="1403280" cy="44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进货管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1073742971"/>
            <p:cNvSpPr/>
            <p:nvPr/>
          </p:nvSpPr>
          <p:spPr>
            <a:xfrm>
              <a:off x="6282360" y="3238560"/>
              <a:ext cx="1247040" cy="44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库存管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1073742972"/>
            <p:cNvSpPr/>
            <p:nvPr/>
          </p:nvSpPr>
          <p:spPr>
            <a:xfrm>
              <a:off x="1293480" y="3238560"/>
              <a:ext cx="1558800" cy="44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系统颜色管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1073742973"/>
            <p:cNvSpPr/>
            <p:nvPr/>
          </p:nvSpPr>
          <p:spPr>
            <a:xfrm>
              <a:off x="1279440" y="4126680"/>
              <a:ext cx="479880" cy="193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查询系统颜色信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1073742974"/>
            <p:cNvSpPr/>
            <p:nvPr/>
          </p:nvSpPr>
          <p:spPr>
            <a:xfrm>
              <a:off x="2072520" y="4126680"/>
              <a:ext cx="468000" cy="195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维护系统颜色信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1073742975"/>
            <p:cNvSpPr/>
            <p:nvPr/>
          </p:nvSpPr>
          <p:spPr>
            <a:xfrm>
              <a:off x="3164400" y="4126680"/>
              <a:ext cx="466920" cy="17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查询进货系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1073742976"/>
            <p:cNvSpPr/>
            <p:nvPr/>
          </p:nvSpPr>
          <p:spPr>
            <a:xfrm>
              <a:off x="4723200" y="4126680"/>
              <a:ext cx="468000" cy="177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查询销售信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1073742977"/>
            <p:cNvSpPr/>
            <p:nvPr/>
          </p:nvSpPr>
          <p:spPr>
            <a:xfrm>
              <a:off x="5503320" y="4126680"/>
              <a:ext cx="466920" cy="177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维护销售信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1073742978"/>
            <p:cNvSpPr/>
            <p:nvPr/>
          </p:nvSpPr>
          <p:spPr>
            <a:xfrm>
              <a:off x="6438600" y="4126680"/>
              <a:ext cx="466920" cy="177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查询库存信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1073742979"/>
            <p:cNvSpPr/>
            <p:nvPr/>
          </p:nvSpPr>
          <p:spPr>
            <a:xfrm>
              <a:off x="7062120" y="4126680"/>
              <a:ext cx="466920" cy="177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维护库存信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1073742980"/>
            <p:cNvSpPr/>
            <p:nvPr/>
          </p:nvSpPr>
          <p:spPr>
            <a:xfrm>
              <a:off x="3943080" y="4126680"/>
              <a:ext cx="468000" cy="17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维护进货信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1073742981"/>
            <p:cNvSpPr/>
            <p:nvPr/>
          </p:nvSpPr>
          <p:spPr>
            <a:xfrm>
              <a:off x="1917000" y="2795400"/>
              <a:ext cx="0" cy="442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1073742982"/>
            <p:cNvSpPr/>
            <p:nvPr/>
          </p:nvSpPr>
          <p:spPr>
            <a:xfrm>
              <a:off x="3787920" y="2795400"/>
              <a:ext cx="720" cy="441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1073742983"/>
            <p:cNvSpPr/>
            <p:nvPr/>
          </p:nvSpPr>
          <p:spPr>
            <a:xfrm>
              <a:off x="5347080" y="2795400"/>
              <a:ext cx="720" cy="441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1073742984"/>
            <p:cNvSpPr/>
            <p:nvPr/>
          </p:nvSpPr>
          <p:spPr>
            <a:xfrm>
              <a:off x="6750360" y="2795400"/>
              <a:ext cx="720" cy="441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1073742985"/>
            <p:cNvSpPr/>
            <p:nvPr/>
          </p:nvSpPr>
          <p:spPr>
            <a:xfrm>
              <a:off x="1917000" y="2795400"/>
              <a:ext cx="4833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1073742986"/>
            <p:cNvSpPr/>
            <p:nvPr/>
          </p:nvSpPr>
          <p:spPr>
            <a:xfrm>
              <a:off x="4255200" y="2351160"/>
              <a:ext cx="0" cy="443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1073742987"/>
            <p:cNvSpPr/>
            <p:nvPr/>
          </p:nvSpPr>
          <p:spPr>
            <a:xfrm>
              <a:off x="1448640" y="3682440"/>
              <a:ext cx="0" cy="443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1073742988"/>
            <p:cNvSpPr/>
            <p:nvPr/>
          </p:nvSpPr>
          <p:spPr>
            <a:xfrm>
              <a:off x="2228760" y="3682440"/>
              <a:ext cx="1080" cy="443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1073742989"/>
            <p:cNvSpPr/>
            <p:nvPr/>
          </p:nvSpPr>
          <p:spPr>
            <a:xfrm>
              <a:off x="3319560" y="3682440"/>
              <a:ext cx="720" cy="443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1073742990"/>
            <p:cNvSpPr/>
            <p:nvPr/>
          </p:nvSpPr>
          <p:spPr>
            <a:xfrm>
              <a:off x="4099680" y="3682440"/>
              <a:ext cx="720" cy="443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1073742991"/>
            <p:cNvSpPr/>
            <p:nvPr/>
          </p:nvSpPr>
          <p:spPr>
            <a:xfrm>
              <a:off x="5034960" y="3682440"/>
              <a:ext cx="1080" cy="443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1073742992"/>
            <p:cNvSpPr/>
            <p:nvPr/>
          </p:nvSpPr>
          <p:spPr>
            <a:xfrm>
              <a:off x="5658840" y="3682440"/>
              <a:ext cx="720" cy="443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1073742993"/>
            <p:cNvSpPr/>
            <p:nvPr/>
          </p:nvSpPr>
          <p:spPr>
            <a:xfrm>
              <a:off x="6594120" y="3682440"/>
              <a:ext cx="720" cy="443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1073742994"/>
            <p:cNvSpPr/>
            <p:nvPr/>
          </p:nvSpPr>
          <p:spPr>
            <a:xfrm>
              <a:off x="7217640" y="3682440"/>
              <a:ext cx="1080" cy="443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文本框 99"/>
          <p:cNvSpPr/>
          <p:nvPr/>
        </p:nvSpPr>
        <p:spPr>
          <a:xfrm>
            <a:off x="1827360" y="6200640"/>
            <a:ext cx="49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超市管理系统功能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250920" y="692280"/>
            <a:ext cx="8281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7411"/>
          <p:cNvSpPr/>
          <p:nvPr/>
        </p:nvSpPr>
        <p:spPr>
          <a:xfrm>
            <a:off x="446040" y="116064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函数流程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1" descr=""/>
          <p:cNvPicPr/>
          <p:nvPr/>
        </p:nvPicPr>
        <p:blipFill>
          <a:blip r:embed="rId2"/>
          <a:stretch/>
        </p:blipFill>
        <p:spPr>
          <a:xfrm>
            <a:off x="1187280" y="549360"/>
            <a:ext cx="637704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252360" y="836640"/>
            <a:ext cx="82821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Object 2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128000" cy="4032360"/>
          </a:xfrm>
          <a:prstGeom prst="rect">
            <a:avLst/>
          </a:prstGeom>
          <a:ln w="0">
            <a:noFill/>
          </a:ln>
        </p:spPr>
      </p:pic>
      <p:sp>
        <p:nvSpPr>
          <p:cNvPr id="176" name="矩形 17411"/>
          <p:cNvSpPr/>
          <p:nvPr/>
        </p:nvSpPr>
        <p:spPr>
          <a:xfrm>
            <a:off x="252360" y="62064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实现代码如下附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7409"/>
          <p:cNvSpPr/>
          <p:nvPr/>
        </p:nvSpPr>
        <p:spPr>
          <a:xfrm>
            <a:off x="2806200" y="1341360"/>
            <a:ext cx="7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对学生成绩管理系统进行分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7410"/>
          <p:cNvSpPr/>
          <p:nvPr/>
        </p:nvSpPr>
        <p:spPr>
          <a:xfrm>
            <a:off x="808200" y="696960"/>
            <a:ext cx="227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§9.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系统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411"/>
          <p:cNvSpPr/>
          <p:nvPr/>
        </p:nvSpPr>
        <p:spPr>
          <a:xfrm>
            <a:off x="468360" y="2060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根据系统需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684360" y="2655720"/>
            <a:ext cx="70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生成绩的输入输出，学生成绩信息的增加、修改、删除、查询，学生成绩总分和平均值的计算以及学生成绩的排序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468360" y="41324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设计系统功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84360" y="4959360"/>
            <a:ext cx="67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绩录入、成绩修改、成绩删除、成绩查询、成绩统计、成绩排序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功能模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6385"/>
          <p:cNvSpPr/>
          <p:nvPr/>
        </p:nvSpPr>
        <p:spPr>
          <a:xfrm>
            <a:off x="324000" y="765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  <a:ea typeface="宋体"/>
              </a:rPr>
              <a:t>系统功能模块如图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  <a:ea typeface="宋体"/>
              </a:rPr>
              <a:t>9-1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  <a:ea typeface="宋体"/>
              </a:rPr>
              <a:t>所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对象 14" descr=""/>
          <p:cNvPicPr/>
          <p:nvPr/>
        </p:nvPicPr>
        <p:blipFill>
          <a:blip r:embed="rId1"/>
          <a:stretch/>
        </p:blipFill>
        <p:spPr>
          <a:xfrm>
            <a:off x="1919160" y="1762200"/>
            <a:ext cx="5303880" cy="361296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99"/>
          <p:cNvSpPr/>
          <p:nvPr/>
        </p:nvSpPr>
        <p:spPr>
          <a:xfrm>
            <a:off x="1919160" y="5618160"/>
            <a:ext cx="50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-1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学生成绩管理系统功能模块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250920" y="692280"/>
            <a:ext cx="8281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§9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系统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7411"/>
          <p:cNvSpPr/>
          <p:nvPr/>
        </p:nvSpPr>
        <p:spPr>
          <a:xfrm>
            <a:off x="468360" y="140328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数据结构定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99"/>
          <p:cNvSpPr/>
          <p:nvPr/>
        </p:nvSpPr>
        <p:spPr>
          <a:xfrm>
            <a:off x="468360" y="2432160"/>
            <a:ext cx="6858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义学生结构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结构体中包含学生姓名、三门功课的成绩、总分等数据成员。结构体定义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ruct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har name[2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 math,english,chinese,total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95280" y="1341360"/>
            <a:ext cx="822024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"/>
          <p:cNvSpPr/>
          <p:nvPr/>
        </p:nvSpPr>
        <p:spPr>
          <a:xfrm>
            <a:off x="663480" y="1341360"/>
            <a:ext cx="66643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义全局结构体数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t[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用来存储多个学生的信息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t[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定义如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ruct Student st[N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其中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表示学生人数的最大值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可以根据实际情况修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义全局变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来表示学生实际人数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定义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 lengt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7411"/>
          <p:cNvSpPr/>
          <p:nvPr/>
        </p:nvSpPr>
        <p:spPr>
          <a:xfrm>
            <a:off x="495360" y="76824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功能函数设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2156040" y="1600200"/>
            <a:ext cx="465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思想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结构化程序设计“自顶向下，逐步求精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2"/>
          <p:cNvSpPr/>
          <p:nvPr/>
        </p:nvSpPr>
        <p:spPr>
          <a:xfrm>
            <a:off x="1308600" y="3106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系统划分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"/>
          <p:cNvSpPr/>
          <p:nvPr/>
        </p:nvSpPr>
        <p:spPr>
          <a:xfrm>
            <a:off x="2835360" y="3567240"/>
            <a:ext cx="17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读写、添加、删除、修改、查询、统计、输出、排序等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7411"/>
          <p:cNvSpPr/>
          <p:nvPr/>
        </p:nvSpPr>
        <p:spPr>
          <a:xfrm>
            <a:off x="495360" y="768240"/>
            <a:ext cx="38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①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main()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：主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2"/>
          <p:cNvSpPr/>
          <p:nvPr/>
        </p:nvSpPr>
        <p:spPr>
          <a:xfrm>
            <a:off x="636480" y="1778040"/>
            <a:ext cx="722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ain(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函数首先调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ReadFile(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函数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tudent.tx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读入学生信息，然后进入循环，用户输入功能选项，根据用户的输入，利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witc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分支选择结构语句，有选择地运行相应功能模块，进入相应功能，输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，退出循环。系统功能选择如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-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09:19:00Z</dcterms:created>
  <dc:creator>zhuang</dc:creator>
  <dc:description/>
  <dc:language>en-US</dc:language>
  <cp:lastModifiedBy>zhuang</cp:lastModifiedBy>
  <dcterms:modified xsi:type="dcterms:W3CDTF">2017-11-26T11:05:46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